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7997B-E088-4EDF-9A40-DCBB0873B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7B708-5B3C-4FED-A892-52B5CFD8A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8E6A1-D296-45B7-B23A-A09F61978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C722-9BB9-40BA-946D-48F0E5686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2040B-0A49-4EA6-A6E1-7963410DE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D5ECE-6ADF-4BCF-B5A7-8CAB84DFE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BBFB3-39E4-4A14-9C33-E51C0D755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0B737-1291-4A19-A05A-9104284F4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385D6-4D06-4D44-B038-D6A9E5B8C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756D7-6C39-4A56-AAA1-E273351CA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DA8A5-C051-49AF-8DCA-385624280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8AEAE-8FBE-4869-8F9F-5C07F64D8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92960"/>
            <a:ext cx="9144000" cy="365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553080"/>
            <a:ext cx="533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 Narrow"/>
              </a:rPr>
              <a:t>ENTREPRENEURSHIP: Ideas in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81480" y="6553080"/>
            <a:ext cx="323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 Narrow"/>
              </a:rPr>
              <a:t>© SOUTH-WESTERN PUB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7543800" y="132840"/>
            <a:ext cx="1447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077320" y="456840"/>
            <a:ext cx="914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910ECBC1-B405-46E6-BAEC-AC5DFA74A0C1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4120" y="2482560"/>
            <a:ext cx="23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9933"/>
                </a:solidFill>
                <a:uFillTx/>
                <a:latin typeface="Impact"/>
              </a:rPr>
              <a:t>LES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92960"/>
            <a:ext cx="9144000" cy="365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837720"/>
            <a:ext cx="662796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553080"/>
            <a:ext cx="533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 Narrow"/>
              </a:rPr>
              <a:t>ENTREPRENEURSHIP: Ideas in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6553080"/>
            <a:ext cx="323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 Narrow"/>
              </a:rPr>
              <a:t>© SOUTH-WESTERN PUB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685440" y="228240"/>
            <a:ext cx="807732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33993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4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581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837720"/>
            <a:ext cx="662796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SELECT A TYPE </a:t>
            </a:r>
            <a:br>
              <a:rPr sz="4800"/>
            </a:b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OF OWNERSHIP</a:t>
            </a:r>
            <a:endParaRPr b="0" lang="en-US" sz="48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240" y="320004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93800" indent="0">
              <a:spcBef>
                <a:spcPts val="799"/>
              </a:spcBef>
              <a:buNone/>
              <a:tabLst>
                <a:tab algn="l" pos="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un an Existing Busin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93800" indent="0">
              <a:spcBef>
                <a:spcPts val="799"/>
              </a:spcBef>
              <a:buNone/>
              <a:tabLst>
                <a:tab algn="l" pos="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4.2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wn a Franchise or Start a Busin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93800" indent="0">
              <a:spcBef>
                <a:spcPts val="799"/>
              </a:spcBef>
              <a:buNone/>
              <a:tabLst>
                <a:tab algn="l" pos="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4.3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oose the Legal Form of Your Busin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apter 4</a:t>
            </a: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FRANCHISE OWNERSHIP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franch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legal agreement that gives an individual the right to market a company’s products or services in a particular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anchis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person who purchases a franchise agre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anchis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person or company that offers a franchise for purc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D946D-58F3-42B3-A41E-674ED3958C80}" type="slidenum">
              <a:t>10</a:t>
            </a:fld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ARE SOME OPERATING COSTS OF A FRANCHISE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franchise 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-up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yalty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tising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C73B6-D86F-4C51-A2F1-830A1AB53DA5}" type="slidenum">
              <a:t>11</a:t>
            </a:fld>
          </a:p>
        </p:txBody>
      </p:sp>
    </p:spTree>
  </p:cSld>
  <p:transition spd="med">
    <p:wipe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ARE SOME ADVANTAGES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OF OWNING A FRANCHISE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trepreneur is provided with an established product o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hisors offer management, technical, and other ass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pment and supplies can be less expen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arantee of consistency attracts 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E1BAA-4844-4292-890D-8514CB351D26}" type="slidenum">
              <a:t>12</a:t>
            </a:fld>
          </a:p>
        </p:txBody>
      </p:sp>
    </p:spTree>
  </p:cSld>
  <p:transition spd="med">
    <p:wipe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ARE SOME DISADVANTAGES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OF OWNING A FRANCHISE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hises can cost a lot of money and cut down on prof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s of franchises have less freedom to make decisions than other entreprene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hisees are dependent on the performance of other franchisees in the ch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anchisor can terminate the franchise agre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FA79F-0937-4A97-BC13-59ED7669DDA2}" type="slidenum">
              <a:t>13</a:t>
            </a:fld>
          </a:p>
        </p:txBody>
      </p:sp>
    </p:spTree>
  </p:cSld>
  <p:transition spd="med">
    <p:wipe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EVALUATING A FRANCHISE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for product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sive terr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provided by franch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B218C-FF3A-447A-86B5-7C6B470BD47F}" type="slidenum">
              <a:t>14</a:t>
            </a:fld>
          </a:p>
        </p:txBody>
      </p:sp>
    </p:spTree>
  </p:cSld>
  <p:transition spd="med"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STARTING YOUR OWN BUSINESS – ADVANTAGES 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 of creating something entirely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ling of success/triumph when business is prof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C9A78-8321-4CD8-B06A-4B0E4AFC4874}" type="slidenum">
              <a:t>15</a:t>
            </a:fld>
          </a:p>
        </p:txBody>
      </p:sp>
    </p:spTree>
  </p:cSld>
  <p:transition spd="med">
    <p:wipe dir="r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STARTING YOUR OWN BUSINESS – DISADVANTAGES 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of demand for product o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make decisions other types of entrepreneurs may not need to ma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o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s to h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82FBB-DCA8-41C1-99C3-F1D895C30422}" type="slidenum">
              <a:t>16</a:t>
            </a:fld>
          </a:p>
        </p:txBody>
      </p:sp>
    </p:spTree>
  </p:cSld>
  <p:transition spd="med">
    <p:wipe dir="r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33"/>
                </a:solidFill>
                <a:latin typeface="Times New Roman"/>
              </a:rPr>
              <a:t>Lesson 4.3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HOOSE THE LEGAL FORM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OF YOUR BUSINES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70360" y="2741400"/>
            <a:ext cx="56671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different legal forms for a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11680" y="2666880"/>
            <a:ext cx="3455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Impact"/>
              </a:rPr>
              <a:t>GOAL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A4503-CA36-4302-B6A0-96B8E0F8E55D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ARE THE MAJOR TYPES OF BUSINESS ARRANGEMENTS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2A846-A9EA-496D-9412-C095B797253F}" type="slidenum">
              <a:t>18</a:t>
            </a:fld>
          </a:p>
        </p:txBody>
      </p:sp>
    </p:spTree>
  </p:cSld>
  <p:transition spd="med">
    <p:wipe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SOLE PROPRIETORSHIP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siness that is owned exclusively by one person is a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sole proprietor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e proprietorship is the most common form of ownership in the Unite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180C-CAB2-443F-8A8E-671526D9DA62}" type="slidenum">
              <a:t>19</a:t>
            </a:fld>
          </a:p>
        </p:txBody>
      </p:sp>
    </p:spTree>
  </p:cSld>
  <p:transition spd="med">
    <p:wipe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33"/>
                </a:solidFill>
                <a:latin typeface="Times New Roman"/>
              </a:rPr>
              <a:t>Lesson 4.1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RUN AN EXISTING BUSINES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0360" y="2741400"/>
            <a:ext cx="56671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advantages and disadvantages of purchasing an existing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steps involved in buying a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the advantages and disadvantages of joining a family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11680" y="2666880"/>
            <a:ext cx="3455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Impact"/>
              </a:rPr>
              <a:t>GOAL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72A18-FA95-482A-815E-2A702F7F7DC7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SOLE PROPRIETORSHIP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of start/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your own b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de of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ing a leg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l all pro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pecial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5320" y="19807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/limited financi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/unlimited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managerial t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y time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 fringe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growth/life s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316B8-1377-446D-B209-6FA28BA4E2C3}" type="slidenum">
              <a:t>20</a:t>
            </a:fld>
          </a:p>
        </p:txBody>
      </p:sp>
    </p:spTree>
  </p:cSld>
  <p:transition spd="med">
    <p:wipe dir="r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PARTNERSHIP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C34D8-0474-46DB-831E-A297A5DA131A}" type="slidenum">
              <a:t>21</a:t>
            </a:fld>
          </a:p>
        </p:txBody>
      </p:sp>
    </p:spTree>
  </p:cSld>
  <p:transition spd="med">
    <p:wipe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PARTNERSHIP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inanci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er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/unlimited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on of pro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greements amo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FA17C-0673-41E7-8650-E7AB40080A9A}" type="slidenum">
              <a:t>22</a:t>
            </a:fld>
          </a:p>
        </p:txBody>
      </p:sp>
    </p:spTree>
  </p:cSld>
  <p:transition spd="med">
    <p:wipe dir="r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ORPORATION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of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ncorpo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4152-E928-4681-BEC6-3FA0E24FC69D}" type="slidenum">
              <a:t>23</a:t>
            </a:fld>
          </a:p>
        </p:txBody>
      </p:sp>
    </p:spTree>
  </p:cSld>
  <p:transition spd="med">
    <p:wipe dir="r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ORPORATION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money for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petu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of ownership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t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ion of ownership/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7692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initi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paper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ion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t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licts with Board of Dir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BCCCD-073C-473B-88BA-845BB02BCCCE}" type="slidenum">
              <a:t>24</a:t>
            </a:fld>
          </a:p>
        </p:txBody>
      </p:sp>
    </p:spTree>
  </p:cSld>
  <p:transition spd="med">
    <p:wipe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S CORPORATION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S corpo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orporation organized under subchapter S of the Internal Revenue Code whose income is taxed as a partne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85535-FA60-485C-9A43-396B0C12BC6E}" type="slidenum">
              <a:t>25</a:t>
            </a:fld>
          </a:p>
        </p:txBody>
      </p:sp>
    </p:spTree>
  </p:cSld>
  <p:transition spd="med">
    <p:wipe dir="r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571500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HARACTERISTICS OF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THE LEGAL FORMS OF BUSINES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305280" y="33861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e to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1040" y="378288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cisions made by one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6000" y="417816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w initial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5640" y="457344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imited 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6000" y="496872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imited government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7080" y="53640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bility to raise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5280" y="575928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ouble taxation of pro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09680" y="1371960"/>
            <a:ext cx="8672760" cy="4865040"/>
            <a:chOff x="409680" y="1371960"/>
            <a:chExt cx="8672760" cy="4865040"/>
          </a:xfrm>
        </p:grpSpPr>
        <p:grpSp>
          <p:nvGrpSpPr>
            <p:cNvPr id="152" name=""/>
            <p:cNvGrpSpPr/>
            <p:nvPr/>
          </p:nvGrpSpPr>
          <p:grpSpPr>
            <a:xfrm>
              <a:off x="4203360" y="1371960"/>
              <a:ext cx="4879080" cy="4865040"/>
              <a:chOff x="4203360" y="1371960"/>
              <a:chExt cx="4879080" cy="486504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4203360" y="1371960"/>
                <a:ext cx="2133000" cy="4865040"/>
                <a:chOff x="4203360" y="1371960"/>
                <a:chExt cx="2133000" cy="4865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203360" y="3168360"/>
                  <a:ext cx="456840" cy="306864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8900000">
                  <a:off x="3990960" y="2209320"/>
                  <a:ext cx="2558520" cy="45720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ctr" pos="3889440"/>
                      <a:tab algn="ctr" pos="5715000"/>
                      <a:tab algn="ctr" pos="754056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Sole Proprietorshi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5114160" y="1371960"/>
                <a:ext cx="2133000" cy="4865040"/>
                <a:chOff x="5114160" y="1371960"/>
                <a:chExt cx="2133000" cy="48650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5114160" y="3168360"/>
                  <a:ext cx="456840" cy="306864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18900000">
                  <a:off x="4901760" y="2209320"/>
                  <a:ext cx="2558520" cy="45720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ctr" pos="3889440"/>
                      <a:tab algn="ctr" pos="5715000"/>
                      <a:tab algn="ctr" pos="754056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Partnershi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6009480" y="1371960"/>
                <a:ext cx="2133000" cy="4865040"/>
                <a:chOff x="6009480" y="1371960"/>
                <a:chExt cx="2133000" cy="48650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009480" y="3168360"/>
                  <a:ext cx="456840" cy="306864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18900000">
                  <a:off x="5797080" y="2209320"/>
                  <a:ext cx="2558520" cy="45720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ctr" pos="3889440"/>
                      <a:tab algn="ctr" pos="5715000"/>
                      <a:tab algn="ctr" pos="754056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Corpora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949080" y="1371960"/>
                <a:ext cx="2133360" cy="4865040"/>
                <a:chOff x="6949080" y="1371960"/>
                <a:chExt cx="2133360" cy="48650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949080" y="3168360"/>
                  <a:ext cx="456840" cy="306864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18900000">
                  <a:off x="6736680" y="2209320"/>
                  <a:ext cx="2558880" cy="45720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ctr" pos="3889440"/>
                      <a:tab algn="ctr" pos="5715000"/>
                      <a:tab algn="ctr" pos="754056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S Corpora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409680" y="2852280"/>
              <a:ext cx="7314840" cy="3364200"/>
              <a:chOff x="409680" y="2852280"/>
              <a:chExt cx="7314840" cy="3364200"/>
            </a:xfrm>
          </p:grpSpPr>
          <p:sp>
            <p:nvSpPr>
              <p:cNvPr id="166" name=""/>
              <p:cNvSpPr/>
              <p:nvPr/>
            </p:nvSpPr>
            <p:spPr>
              <a:xfrm>
                <a:off x="410760" y="2852280"/>
                <a:ext cx="175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3889440"/>
                    <a:tab algn="ctr" pos="5715000"/>
                    <a:tab algn="ctr" pos="754056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6600"/>
                    </a:solidFill>
                    <a:latin typeface="Arial Narrow"/>
                  </a:rPr>
                  <a:t>FEATUR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09680" y="3431880"/>
                <a:ext cx="73148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09680" y="3828960"/>
                <a:ext cx="73148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9680" y="4227480"/>
                <a:ext cx="73148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09680" y="4624200"/>
                <a:ext cx="73148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09680" y="5022720"/>
                <a:ext cx="73148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09680" y="5419440"/>
                <a:ext cx="73148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09680" y="5817960"/>
                <a:ext cx="73148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09680" y="6216480"/>
                <a:ext cx="73148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4280040" y="3879720"/>
            <a:ext cx="274320" cy="274680"/>
          </a:xfrm>
          <a:prstGeom prst="bevel">
            <a:avLst>
              <a:gd name="adj" fmla="val 125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80040" y="3494160"/>
            <a:ext cx="1188720" cy="274680"/>
            <a:chOff x="4280040" y="3494160"/>
            <a:chExt cx="1188720" cy="274680"/>
          </a:xfrm>
        </p:grpSpPr>
        <p:sp>
          <p:nvSpPr>
            <p:cNvPr id="177" name=""/>
            <p:cNvSpPr/>
            <p:nvPr/>
          </p:nvSpPr>
          <p:spPr>
            <a:xfrm>
              <a:off x="4280040" y="3494160"/>
              <a:ext cx="274320" cy="274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94440" y="3494160"/>
              <a:ext cx="274320" cy="274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280040" y="4286160"/>
            <a:ext cx="1188720" cy="274680"/>
            <a:chOff x="4280040" y="4286160"/>
            <a:chExt cx="1188720" cy="274680"/>
          </a:xfrm>
        </p:grpSpPr>
        <p:sp>
          <p:nvSpPr>
            <p:cNvPr id="180" name=""/>
            <p:cNvSpPr/>
            <p:nvPr/>
          </p:nvSpPr>
          <p:spPr>
            <a:xfrm>
              <a:off x="4280040" y="4286160"/>
              <a:ext cx="274320" cy="274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94440" y="4286160"/>
              <a:ext cx="274320" cy="274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280040" y="5091120"/>
            <a:ext cx="1188720" cy="274320"/>
            <a:chOff x="4280040" y="5091120"/>
            <a:chExt cx="1188720" cy="274320"/>
          </a:xfrm>
        </p:grpSpPr>
        <p:sp>
          <p:nvSpPr>
            <p:cNvPr id="183" name=""/>
            <p:cNvSpPr/>
            <p:nvPr/>
          </p:nvSpPr>
          <p:spPr>
            <a:xfrm>
              <a:off x="4280040" y="5091120"/>
              <a:ext cx="274320" cy="27432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94440" y="5091120"/>
              <a:ext cx="274320" cy="27432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075360" y="5878440"/>
            <a:ext cx="274680" cy="274680"/>
          </a:xfrm>
          <a:prstGeom prst="bevel">
            <a:avLst>
              <a:gd name="adj" fmla="val 125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075360" y="4692600"/>
            <a:ext cx="1209600" cy="274680"/>
            <a:chOff x="6075360" y="4692600"/>
            <a:chExt cx="1209600" cy="274680"/>
          </a:xfrm>
        </p:grpSpPr>
        <p:sp>
          <p:nvSpPr>
            <p:cNvPr id="187" name=""/>
            <p:cNvSpPr/>
            <p:nvPr/>
          </p:nvSpPr>
          <p:spPr>
            <a:xfrm>
              <a:off x="6075360" y="4692600"/>
              <a:ext cx="274680" cy="274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10280" y="4692600"/>
              <a:ext cx="274680" cy="274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075360" y="5479920"/>
            <a:ext cx="1209600" cy="274680"/>
            <a:chOff x="6075360" y="5479920"/>
            <a:chExt cx="1209600" cy="274680"/>
          </a:xfrm>
        </p:grpSpPr>
        <p:sp>
          <p:nvSpPr>
            <p:cNvPr id="190" name=""/>
            <p:cNvSpPr/>
            <p:nvPr/>
          </p:nvSpPr>
          <p:spPr>
            <a:xfrm>
              <a:off x="6075360" y="5479920"/>
              <a:ext cx="274680" cy="274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10280" y="5479920"/>
              <a:ext cx="274680" cy="274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6DEAF-FF73-43AB-876D-7F3F5F5EA943}" type="slidenum">
              <a:t>26</a:t>
            </a:fld>
          </a:p>
        </p:txBody>
      </p:sp>
    </p:spTree>
  </p:cSld>
  <p:transition spd="med">
    <p:wipe dir="r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ARE SOME ADVANTAGES OF BUYING AN EXISTING BUSINESS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isting business already has customers, suppliers, and proce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ller of a business may train a new ow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prior records of revenues, expenses, and pro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arrangements can be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721A5-557C-47C5-863C-570B02CBB0E1}" type="slidenum">
              <a:t>3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ARE SOME DISADVANTAGES OF BUYING AN EXISTING BUSINESS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usinesses are for sale because they are not making a pro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ous problems may be inher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is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7039B-29C2-4576-99E7-86F112591EF4}" type="slidenum">
              <a:t>4</a:t>
            </a:fld>
          </a:p>
        </p:txBody>
      </p:sp>
    </p:spTree>
  </p:cSld>
  <p:transition spd="med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ARE THE STEPS TO PURCHASE A BUSINESS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6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specific objectives about the kind of business you want to buy, and identify businesses for sale that meet your objectiv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 with business sellers or brokers to investigate specific opportun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it during business hours to observe the company in a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5FCB-35C4-41A4-9016-CD95EF5E2341}" type="slidenum">
              <a:t>5</a:t>
            </a:fld>
          </a:p>
        </p:txBody>
      </p:sp>
    </p:spTree>
  </p:cSld>
  <p:transition spd="med"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ARE THE STEPS TO PURCHASE A BUSINESS? </a:t>
            </a:r>
            <a:r>
              <a:rPr b="0" lang="en-US" sz="2400" spc="-1" strike="noStrike">
                <a:solidFill>
                  <a:srgbClr val="000099"/>
                </a:solidFill>
                <a:latin typeface="Impact"/>
              </a:rPr>
              <a:t>(cont.)</a:t>
            </a:r>
            <a:endParaRPr b="0" lang="en-US" sz="2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6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the owner to provide you with a complete financial accounting of operations for at least the past three y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for important information in written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how you would finance the busin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 expert help to determine a price to offer for the busi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CEE68-790C-4575-BD2D-BCBB3753FBE5}" type="slidenum">
              <a:t>6</a:t>
            </a:fld>
          </a:p>
        </p:txBody>
      </p:sp>
    </p:spTree>
  </p:cSld>
  <p:transition spd="med"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ARE SOME ADVANTAGES TO ENTERING A FAMILY BUSINESS 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de and sense of 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remains in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le to enjoy working with rel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benefit others you car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FD4FB-7AC0-45AF-9C20-202665562D64}" type="slidenum">
              <a:t>7</a:t>
            </a:fld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WHAT ARE DISADVANTAGES OR CONCERNS ABOUT ENTERING A FAMILY BUSINESS ?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ior management positions are often held by family members who may not be qual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freedom to make decisions on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bility to continue if no one to take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 separating business and private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30514-51C0-4219-A1D7-7B2602CC8B37}" type="slidenum">
              <a:t>8</a:t>
            </a:fld>
          </a:p>
        </p:txBody>
      </p:sp>
    </p:spTree>
  </p:cSld>
  <p:transition spd="med"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33"/>
                </a:solidFill>
                <a:latin typeface="Times New Roman"/>
              </a:rPr>
              <a:t>Lesson 4.2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OWN A FRANCHISE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OR START A BUSINES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70360" y="2741400"/>
            <a:ext cx="56671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franchise owne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the advantages and disadvantages of starting a new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211680" y="2666880"/>
            <a:ext cx="3455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Impact"/>
              </a:rPr>
              <a:t>GOAL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D2A12-F989-4987-8807-6DAF2A2B0FAD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3:54:40Z</dcterms:created>
  <dc:creator>M. C. McLaughlin</dc:creator>
  <dc:description/>
  <dc:language>en-US</dc:language>
  <cp:lastModifiedBy>agalaro</cp:lastModifiedBy>
  <dcterms:modified xsi:type="dcterms:W3CDTF">2007-10-15T20:30:21Z</dcterms:modified>
  <cp:revision>20</cp:revision>
  <dc:subject/>
  <dc:title>Chapter 4 SELECT A TYPE OF OWNERSHIP</dc:title>
</cp:coreProperties>
</file>